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61FE-A9D3-4552-99FE-302E76F85C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Учебная дисциплина 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АВОВЕДЕНИЕ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7. Значение законности и правопорядка в совреме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. 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 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 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3043-29FD-4C92-8200-7951DD36DA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24CF-80E5-4C4E-B90A-96E30ACD7E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ПОРЯД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реализованная законность,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х на основе норм права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ставляет собой цель правового регул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торого принимаются законы и иные норм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акты, осуществляется 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A028-72B5-4152-B736-A07FEA4EFD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орядок всегд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торич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законности. Поэтому укрепл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ее принципов в полном объеме неизбе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крепля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чем слабее реализуются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и, тем слабее правопорядок и силь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, тем ниже защищенность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, уровень их лич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6A16-D92C-4AE8-844D-4859EC377F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348B-F5E6-48C8-95C2-538AEDA25F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Эконом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значают, что производство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 и доходы граждан, государ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и управление и частное предприниматель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 материально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установленных законами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граж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485A-0089-4D7B-B770-B221D81BCB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олит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гарантии означают, что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свою политику в различных сферах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нтересах большинства граждан, реал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ах волю народа, обеспечивает со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 всеми должностными лицами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B2B6-5933-4851-820B-ECC24A35B4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циальны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законы принимаются в интересах тех или ины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социальных групп и приводятся в действие людьми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изации закона не может не быть заинтересов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ов. К сожалению, далеко не всегда законы испол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, в том числе по вине должностных л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в обществе должны дей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сударственные средства обеспечения исполнен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а также способствующие отмене законов (и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актов или их отдельных полож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х дл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06E5-6252-4671-9515-F797B5755D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деологические гарант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ческие гарантии подразумевают целенаправ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ктивное повышение правовых знаний у насе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бщей грамотности, уровня образования и культу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ение причин принятия тех или иных правовых а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мнения граждан при разработке и совершенств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разъяснение в общедоступных формах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рядка применения правовых а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C7C1-7FDB-485A-B5AE-82310DF8C8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ются от других гаран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авовые нормы не только закрепляют сложивш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еделенное время экономические, полит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 некоторые духовные основы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изменяют их посредством установления законами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я хозяйственной деятельности, порядка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х решений, бюджетного финансирования разли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й деятель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юридические гарантии включают собственные 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аконности и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092F-9999-4036-A945-EA9C85DDD2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РЫ УКРЕПЛЕНИЯ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C5DC-4022-445C-B7AA-A54697FAAE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44CE-8418-43C5-811F-DA315AA1EF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овершенствование законодательств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ходя из интересов всего обществ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ая мера. Она предполагает своевременн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 из потребностей общественной практ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законов, устранение в них проб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реч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BA56-4EB1-4CB0-B5EA-57A9746488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становление законами понятных,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ыстро реализуемых правил обжал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й, действий и бездейств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ов и должностных ли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обра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ризнания любых актов или их отд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й не соответствующими актам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юридической силы, в том числе сам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D312-604E-465D-9ACB-1CD1A15619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редотвращение правонарушений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правонарушениями — важная государ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. Однако не менее важна и даже первична 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изации правонарушений по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едупреждения, устранения причин и услов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щих их совершению. В идеале след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предотвращению любых,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ых правонарушений, особенно ср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1322-9C0F-43F0-866C-B722F39704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Привлечение правонаруш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 юридической ответственност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многих случаях данная мера не требует значи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й государства. Вред же, который на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казанными правонарушителями, многокра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ит затраты по привлечению их к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C8C2-3D44-4E74-9591-4CB1BEBED0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A4A7-F043-4B4F-BDA5-A88F516B39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МЕРНОГО П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оступки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не противоречат правовым норм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оответствует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 нарушает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государство должно быть заинтерес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ерном поведении свои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яческ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CA05-C890-4358-BE81-5B3026543D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равомерного п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072F-BAC6-4C73-86E6-4A205F74E8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с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грани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96E-6904-47A8-8618-0B4FC12366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Б Л А Г О Д А Р 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C052-B8A5-4428-80EC-A113E19A43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нятие закон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Зако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уклонное соблюдение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 субъектами (участниками)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 (гражданами, организац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ми органами, должностными лица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45D0-CB2D-4177-9F34-D3F1BBAE0F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A16B-D688-4684-94B0-AEA3AAD851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Верховенство зако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ый принцип зако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значает, что закон облад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ш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й по отношению к любым другим а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B532-01E2-4F27-9B14-1C9D65598E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сеобщ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данным принципом любой закон дол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образно реализовываться на всей терри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 при осуществлении люб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отношении любого лица: бедного или бога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щего на начальственной должности, подчин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езработного, атеиста или верующег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 исключает особенностей действия законов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ы в них сам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C1CF-1FED-46A1-ADB5-735A760A97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ственная польз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значает, что должны приниматься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 законы, которые продиктованы потребностям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, а не корыстными и иными субъ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ми отдельных государственных дея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в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е в искусственном создании зако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том, чтобы открывать объективные законы в са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и соответственно их формулировать, не навязы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ой необходимости свои произволь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6E20-370B-4256-88AE-70A1B019D1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допустимость противопост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ности и целесообраз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анного принципа обусловлено о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м изменения отдельных положений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ятия новых законов от изменения и по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общественных отношений либо, напроти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беганием» закона вперед сложившихся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9333-3738-4E4F-AAF5-0D8154D35A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отвратимость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нарушение зако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дновременно является и принц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й ответственности, что лишь подчер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равовое значение. Неотвратимость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закона позволяет воплощать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нной практике и поддерживать ее, без ч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останется отвлеченной теоретико-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F9A9-D4C8-4D01-A4E9-AA28B44902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EFB-E6CA-4AFD-85DD-17750D07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C49-5363-4D28-8770-931BA1B7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141-02CB-4157-B25D-77AEA73F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27B-BFE4-40A4-9956-584648F6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B5B-E08F-4D70-892B-13C14B10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2BC-A640-4E2F-9DA9-AD4808C0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BB8-5EBA-4690-BA40-AEB637BC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834-B972-4B0C-9C46-90C14F40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2F7-8154-42CD-81B6-BD406A41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F06-4F24-43B8-9DBF-09E32FBC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C4A-5D18-4688-AA8C-665E07D2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594-4056-42BE-B953-5700344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40F7-196F-4081-BABF-5762DD51A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8728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 дисципли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ОВЕД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41300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7. Значение законности и правопорядка в соврем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. Правов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64000" y="26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042920" y="3429000"/>
            <a:ext cx="691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конность, правопорядок и общественный поряд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арантии законности и правопоряд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5640" y="278136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аконность, право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бщественный поряд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26920" y="981000"/>
            <a:ext cx="749016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оряд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реализованная законность,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рядоченных на основе норм права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едставляет собой цель правового регул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торого принимаются законы и иные норм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ые акты, осуществляется совершен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87280" y="1197000"/>
            <a:ext cx="6842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порядок всегд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ич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отно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законности. Поэтому укрепле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о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ее принципов в полном объеме неизб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реп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чем слабее реализуются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ности, тем слабее правопорядок и силь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л, тем ниже защищенность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, уровень их лич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16000" y="270828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00000" y="1125360"/>
            <a:ext cx="7559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Эконом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значают, что производство материальных бл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 и доходы граждан, государ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 и управление и частное предприниматель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собственности материально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установленных законами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х гражд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66760" y="114444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58920" y="1341360"/>
            <a:ext cx="6624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лит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е гарантии означают, что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 свою политику в различных сферах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тересах большинства граждан, реал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онах волю народа, обеспечивает соблю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 всеми должностными лицами в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620640"/>
            <a:ext cx="806436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ые законы принимаются в интересах тех или ины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социальных групп и приводятся в действие людьми, поэ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ализации закона не может не быть заинтересов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. К сожалению, далеко не всегда законы исполн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вольно, в том числе по вине должностных л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 в обществе должны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средства обеспечения исполнения люб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а также способствующие отмене законов (и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х актов или их отдельных положен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х дл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55640" y="981000"/>
            <a:ext cx="77770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ологические гаран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ологические гарантии подразумевают целенаправл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активное повышение правовых знаний у 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общей грамотности, уровня образования и куль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ъяснение причин принятия тех или иных правовых а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мнения граждан при разработке и совершенств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разъяснение в общедоступных формах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рядка применения правовых а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692280"/>
            <a:ext cx="79930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 законности и право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ются от других гаран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правовые нормы не только закрепляют сложивш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пределенное время экономические, полит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и некоторые духовные основы обще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изменяют их посредством установления законами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ения хозяйственной деятельности, порядка при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х решений, бюджетного финансирования разл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й деятельнос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юридические гарантии включают собственные 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епления законности и правопоря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76360" y="285264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УКРЕПЛЕНИЯ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116000" y="328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116000" y="1341360"/>
            <a:ext cx="705636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вершенствование законодате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я из интересов всего обще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ая мера. Она предполагает своевреме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и из потребностей общественной практ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ие законов, устранение в них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тиворе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00000" y="1052640"/>
            <a:ext cx="77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ановление законами понятных, лег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стро реализуемых правил обжал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, действий и бездействия люб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и должностных л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об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признания любых актов или их отд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й не соответствующими актам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й юридической силы, в том числе сам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71640" y="1052640"/>
            <a:ext cx="71294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едотвращение правонаруш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ьба с правонарушениями — важная государ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. Однако не менее важна и даже первична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изации правонарушений по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предупреждения, устранения причин и усло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ующих их совершению. В идеале след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к предотвращению любых, даже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начительных правонарушений, особенно с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вершеннолет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1125360"/>
            <a:ext cx="74170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влечение правонаруш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юридической ответств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лучаях данная мера не требует знач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й государства. Вред же, который на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наказанными правонарушителями, многок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осходит затраты по привлечению их к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35280" y="3213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32000" y="765000"/>
            <a:ext cx="6553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МЕР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омер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поступки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не противоречат правовым норм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оответствует зак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 нарушает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государство должно быть заинтерес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мерном поведении свои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сячески поддержи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19280" y="328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равомерн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620640"/>
            <a:ext cx="784836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ани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Б Л А Г О Д А Р 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5877000"/>
            <a:ext cx="720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Зульфугарзаде Т.Э.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Финансовая академия при Правительстве Российской Федерации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1484280"/>
            <a:ext cx="7058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ко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уклонное соблюдение норм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и субъектами (участниками)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 (гражданами, организац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ми органами, должностными лиц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16000" y="3068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87280" y="155736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ерховенство зак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ый принцип зако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означает, что закон облада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ой по отношению к любым другим ак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836640"/>
            <a:ext cx="748980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общ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данным принципом любой закон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образно реализовываться на всей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а при осуществлении люб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отношении любого лица: бедного или бога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ющего на начальственной должности, подчин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безработного, атеиста или верующег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 исключает особенностей действия законов,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ы в них сам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26920" y="765000"/>
            <a:ext cx="756144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ая поль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значает, что должны приниматься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 законы, которые продиктованы потребностям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а, а не корыстными и иными субъекти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ями отдельных государственных дея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вла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е в искусственном создании зако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том, чтобы открывать объективные законы в са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и и соответственно их формулировать, не навязы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ой необходимости свои произвольны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981000"/>
            <a:ext cx="727236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пустимость противопо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ности и целесообраз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анного принципа обусловлено объект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таванием изменения отдельных положений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ринятия новых законов от изменения и по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общественных отношений либо, напрот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беганием» закона вперед сложившихся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042920" y="907920"/>
            <a:ext cx="7201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арушение за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дновременно является и принц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ой ответственности, что лишь подчерк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авовое значение. Неотвратимость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нарушение закона позволяет воплощать 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нной практике и поддерживать ее, без 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станется отвлеченной теоретико-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10:12:12Z</dcterms:modified>
  <cp:revision>223</cp:revision>
  <dc:subject/>
  <dc:title>Правоведение</dc:title>
</cp:coreProperties>
</file>